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1C1E-25FF-485C-A742-1418B552E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BCF9-2BE7-4E81-8598-3343EA031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E854-4DD2-4EC5-9993-C4EF13853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6242-822C-4729-9ED1-233B66E3C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EB2F-11F9-4D52-BF1D-D73D8262F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4DD2-3DE0-41CC-89D3-4EBAE37E2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DD1D-6FD6-4EB3-A1D9-8986F45E0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B632-5FEE-45F2-AAAA-A3D03E4D8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9A90-F040-4417-B47B-011D723A1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752C-EF69-4CC1-9D0B-54E2DFE65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5B3B-D337-462B-9EB4-5365D2D03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5D9E-6ECC-4616-8D8D-B150A19A3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A487F-42D2-419C-822C-B58F7259796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1040" cy="1144800"/>
          </a:xfrm>
          <a:prstGeom prst="rect">
            <a:avLst/>
          </a:prstGeom>
          <a:solidFill>
            <a:srgbClr val="333399">
              <a:alpha val="46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Después, determinaremos cuál es su tem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9640" y="2060280"/>
            <a:ext cx="8229600" cy="3128760"/>
          </a:xfrm>
          <a:prstGeom prst="rect">
            <a:avLst/>
          </a:prstGeom>
          <a:solidFill>
            <a:srgbClr val="ff00ff">
              <a:alpha val="19000"/>
            </a:srgbClr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0066"/>
                </a:solidFill>
                <a:latin typeface="Arial"/>
              </a:rPr>
              <a:t>La primera declinación tiene tema en –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0066"/>
                </a:solidFill>
                <a:latin typeface="Arial"/>
              </a:rPr>
              <a:t>La segunda en –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0066"/>
                </a:solidFill>
                <a:latin typeface="Arial"/>
              </a:rPr>
              <a:t>La tercera en consonante o en –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0066"/>
                </a:solidFill>
                <a:latin typeface="Arial"/>
              </a:rPr>
              <a:t>La cuarta en –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0066"/>
                </a:solidFill>
                <a:latin typeface="Arial"/>
              </a:rPr>
              <a:t>La quinta en –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075520" cy="1425600"/>
          </a:xfrm>
          <a:prstGeom prst="rect">
            <a:avLst/>
          </a:prstGeom>
          <a:solidFill>
            <a:srgbClr val="ffff00">
              <a:alpha val="4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cc00"/>
                </a:solidFill>
                <a:latin typeface="Arial"/>
              </a:rPr>
              <a:t>Para distinguir el tema en consonante del tema en –i se cuenta el </a:t>
            </a: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número de sílabas del nominativo y el genitivo</a:t>
            </a:r>
            <a:r>
              <a:rPr b="0" lang="es-ES" sz="2800" spc="-1" strike="noStrike">
                <a:solidFill>
                  <a:srgbClr val="99cc00"/>
                </a:solidFill>
                <a:latin typeface="Arial"/>
              </a:rPr>
              <a:t> del enunci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507520" cy="4065480"/>
          </a:xfrm>
          <a:prstGeom prst="rect">
            <a:avLst/>
          </a:prstGeom>
          <a:solidFill>
            <a:srgbClr val="ff9900">
              <a:alpha val="48000"/>
            </a:srgbClr>
          </a:solidFill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c6600"/>
                </a:solidFill>
                <a:latin typeface="Arial"/>
              </a:rPr>
              <a:t>Si es </a:t>
            </a: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imparisílabo</a:t>
            </a:r>
            <a:r>
              <a:rPr b="0" lang="es-ES" sz="3200" spc="-1" strike="noStrike">
                <a:solidFill>
                  <a:srgbClr val="cc6600"/>
                </a:solidFill>
                <a:latin typeface="Arial"/>
              </a:rPr>
              <a:t>, es tema en consonante. </a:t>
            </a:r>
            <a:r>
              <a:rPr b="0" lang="es-ES" sz="3200" spc="-1" strike="noStrike">
                <a:solidFill>
                  <a:srgbClr val="ff66ff"/>
                </a:solidFill>
                <a:latin typeface="Arial"/>
              </a:rPr>
              <a:t>Ej. Miles mili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6600"/>
                </a:solidFill>
                <a:latin typeface="Arial"/>
              </a:rPr>
              <a:t>La consonante del tema es la última letra de la raíz. </a:t>
            </a:r>
            <a:r>
              <a:rPr b="0" lang="es-ES" sz="1800" spc="-1" strike="noStrike">
                <a:solidFill>
                  <a:srgbClr val="ff66ff"/>
                </a:solidFill>
                <a:latin typeface="Arial"/>
              </a:rPr>
              <a:t>Ej. Milit-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6600"/>
                </a:solidFill>
                <a:latin typeface="Arial"/>
              </a:rPr>
              <a:t>Cuando la raíz acaba en –r puede ser un tema en –s o en –r. </a:t>
            </a:r>
            <a:r>
              <a:rPr b="0" lang="es-ES" sz="1800" spc="-1" strike="noStrike">
                <a:solidFill>
                  <a:srgbClr val="ff66ff"/>
                </a:solidFill>
                <a:latin typeface="Arial"/>
              </a:rPr>
              <a:t>Ej. Amor amo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6600"/>
                </a:solidFill>
                <a:latin typeface="Arial"/>
              </a:rPr>
              <a:t>Es tema en –s , si el nominativo acaba en –</a:t>
            </a:r>
            <a:r>
              <a:rPr b="0" lang="es-ES" sz="1800" spc="-1" strike="noStrike">
                <a:solidFill>
                  <a:srgbClr val="ff66ff"/>
                </a:solidFill>
                <a:latin typeface="Arial"/>
              </a:rPr>
              <a:t>s.Ej. Honos honoris</a:t>
            </a:r>
            <a:r>
              <a:rPr b="0" lang="es-ES" sz="1800" spc="-1" strike="noStrike">
                <a:solidFill>
                  <a:srgbClr val="cc66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c6600"/>
                </a:solidFill>
                <a:latin typeface="Arial"/>
              </a:rPr>
              <a:t>Si es </a:t>
            </a: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parisílabo,</a:t>
            </a:r>
            <a:r>
              <a:rPr b="0" lang="es-ES" sz="3200" spc="-1" strike="noStrike">
                <a:solidFill>
                  <a:srgbClr val="cc6600"/>
                </a:solidFill>
                <a:latin typeface="Arial"/>
              </a:rPr>
              <a:t> es tema en –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66ff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ff66ff"/>
                </a:solidFill>
                <a:latin typeface="Arial"/>
              </a:rPr>
              <a:t>Ej.navis nav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A continuación, veremos el género, para saber sí  es neutro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El género neutro puede reconocerse mirando el 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nominativo singular</a:t>
            </a: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 en el enunciad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971640" y="3716280"/>
          <a:ext cx="7056360" cy="1119240"/>
        </p:xfrm>
        <a:graphic>
          <a:graphicData uri="http://schemas.openxmlformats.org/drawingml/2006/table">
            <a:tbl>
              <a:tblPr/>
              <a:tblGrid>
                <a:gridCol w="1935000"/>
                <a:gridCol w="1471680"/>
                <a:gridCol w="1471680"/>
                <a:gridCol w="1239840"/>
                <a:gridCol w="93816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2ª declin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ª tema -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ª tema -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ª en -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4ª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-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-m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-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-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-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-828720" y="-833400"/>
            <a:ext cx="10441080" cy="780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28268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ff"/>
                </a:solidFill>
                <a:latin typeface="Arial"/>
              </a:rPr>
              <a:t>Hagamos el esquema de la declinació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91520" cy="4997520"/>
          </a:xfrm>
          <a:prstGeom prst="rect">
            <a:avLst/>
          </a:prstGeom>
          <a:solidFill>
            <a:srgbClr val="cc99ff">
              <a:alpha val="62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Pondremos el nominativo y el genitivo del enuncia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403280" y="2421000"/>
          <a:ext cx="6096240" cy="40021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cas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singul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>
                        <a:alpha val="4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plur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>
                        <a:alpha val="46000"/>
                      </a:srgbClr>
                    </a:solidFill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Nominativ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99">
                        <a:alpha val="4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Puell-</a:t>
                      </a:r>
                      <a:r>
                        <a:rPr b="0" lang="es-E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Vocativ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99">
                        <a:alpha val="4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Acusativ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99">
                        <a:alpha val="4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Genitiv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99">
                        <a:alpha val="4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Puell-</a:t>
                      </a:r>
                      <a:r>
                        <a:rPr b="0" lang="es-E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Dativ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99">
                        <a:alpha val="4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ablativ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0099">
                        <a:alpha val="4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5T23:58:14Z</dcterms:created>
  <dc:creator>App</dc:creator>
  <dc:description/>
  <dc:language>en-US</dc:language>
  <cp:lastModifiedBy>PROFESORES</cp:lastModifiedBy>
  <dcterms:modified xsi:type="dcterms:W3CDTF">2010-01-19T16:34:09Z</dcterms:modified>
  <cp:revision>3</cp:revision>
  <dc:subject/>
  <dc:title>Diapositiva 1</dc:title>
</cp:coreProperties>
</file>